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28797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F30-68A3-4B7F-A7F6-391147E7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B32-7AAB-4887-AB9F-C53AFEEB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53D-1FF0-4B9B-B5D6-498D9E64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B39-D478-41CA-83B4-5110E546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6B7-6623-42E5-BAEF-02081BEF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771-BFF5-48C6-A5F1-D976E9F5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973-E04C-4DD4-9F7E-A1577C32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483-17BF-469F-9A11-AE0622D5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15920"/>
            <a:ext cx="55087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583-C530-4237-8D59-3C13C98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CB2-18A0-4508-84C2-7EA6B789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359-AF0B-4619-90A3-37161CAF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4D2-130D-40C0-BDE9-4243D3C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15920"/>
            <a:ext cx="5508720" cy="479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69000"/>
          </a:bodyPr>
          <a:p>
            <a:pPr marL="159840" indent="-159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1314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2080" indent="-106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744840" indent="-106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622240"/>
            <a:ext cx="142704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622240"/>
            <a:ext cx="19368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622240"/>
            <a:ext cx="14274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DCF73AC2-EE97-4558-B4A4-4067D94335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6160" y="517680"/>
            <a:ext cx="1989000" cy="350640"/>
          </a:xfrm>
          <a:prstGeom prst="rect">
            <a:avLst/>
          </a:prstGeom>
          <a:solidFill>
            <a:srgbClr val="00ff00">
              <a:alpha val="90000"/>
            </a:srgbClr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568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6160" y="2271600"/>
            <a:ext cx="1989000" cy="3510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200" y="1521000"/>
            <a:ext cx="8413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A / E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95840" y="1521000"/>
            <a:ext cx="9349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38760" y="1521000"/>
            <a:ext cx="93348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9552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JB Partit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" y="1481040"/>
            <a:ext cx="5263920" cy="444600"/>
          </a:xfrm>
          <a:prstGeom prst="rect">
            <a:avLst/>
          </a:prstGeom>
          <a:noFill/>
          <a:ln w="19080">
            <a:solidFill>
              <a:srgbClr val="3555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70280" y="879120"/>
            <a:ext cx="1121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pecialized Execution Environ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71960" y="1170000"/>
            <a:ext cx="588960" cy="301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19440" y="204948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mmon 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213080" y="2224080"/>
            <a:ext cx="424080" cy="223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00" y="-144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ame Business 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0720" y="216000"/>
            <a:ext cx="792360" cy="287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1"/>
            <a:endCxn id="41" idx="1"/>
          </p:cNvCxnSpPr>
          <p:nvPr/>
        </p:nvCxnSpPr>
        <p:spPr>
          <a:xfrm rot="10800000">
            <a:off x="2216160" y="693000"/>
            <a:ext cx="360" cy="1754280"/>
          </a:xfrm>
          <a:prstGeom prst="bentConnector3">
            <a:avLst>
              <a:gd name="adj1" fmla="val -6490000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6" name=""/>
          <p:cNvCxnSpPr>
            <a:stCxn id="41" idx="2"/>
            <a:endCxn id="48" idx="0"/>
          </p:cNvCxnSpPr>
          <p:nvPr/>
        </p:nvCxnSpPr>
        <p:spPr>
          <a:xfrm flipH="1" rot="16200000">
            <a:off x="2904480" y="1173960"/>
            <a:ext cx="613080" cy="1440"/>
          </a:xfrm>
          <a:prstGeom prst="bentConnector3">
            <a:avLst>
              <a:gd name="adj1" fmla="val 4970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43" idx="0"/>
          </p:cNvCxnSpPr>
          <p:nvPr/>
        </p:nvCxnSpPr>
        <p:spPr>
          <a:xfrm rot="5400000">
            <a:off x="3037680" y="2098080"/>
            <a:ext cx="346320" cy="144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7-08-20T20:59:35Z</dcterms:modified>
  <cp:revision>46</cp:revision>
  <dc:subject/>
  <dc:title>Slide 1</dc:title>
</cp:coreProperties>
</file>