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19813" cy="32400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514440"/>
            <a:ext cx="485784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F416-3F76-44BF-AF7C-2BB885F39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2143080" y="514440"/>
            <a:ext cx="4857840" cy="25718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ntimeDepend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8D5-75AE-4401-9FEE-ED3F8D9C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5508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1872720"/>
            <a:ext cx="5508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20D-9CC7-494C-813C-D014B520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8FD-72A5-4F52-B8E6-21B72D77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75564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75564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187272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187272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187272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2CAB-E48D-4289-BD1A-CF22E98D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755640"/>
            <a:ext cx="55087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2EA-2A04-4CDB-86B1-7353DC31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55087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8DD-AC8D-401A-83D6-B72DC7AF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42C5-87FD-4A6A-A5D7-DCAFFEF8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206-50FD-45AE-BD7A-E06B3129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29960"/>
            <a:ext cx="55087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989-677C-45FD-BDF1-05D8083F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CE3F-BEDC-4A7B-83E4-A84F5224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1D4-C481-429D-B326-EA630368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1872720"/>
            <a:ext cx="5508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06F9-7032-4A53-8BEE-F7FFDB31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755640"/>
            <a:ext cx="55087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78000"/>
          </a:bodyPr>
          <a:p>
            <a:pPr marL="180720" indent="-1807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1483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01560" indent="-119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842040" indent="-1198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082160" indent="-1198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082160" indent="-1198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082160" indent="-1198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2950920"/>
            <a:ext cx="1427040" cy="2235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2950920"/>
            <a:ext cx="1936800" cy="2235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2950920"/>
            <a:ext cx="1427400" cy="2235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7A27248D-081E-4D9E-9BF4-A63BB946D1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49600" y="565200"/>
            <a:ext cx="3179880" cy="1022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06560" y="622440"/>
            <a:ext cx="3422520" cy="406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33640" y="703440"/>
            <a:ext cx="115560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89360" y="703440"/>
            <a:ext cx="115704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29160" y="1179360"/>
            <a:ext cx="115740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0" idx="3"/>
            <a:endCxn id="51" idx="1"/>
          </p:cNvCxnSpPr>
          <p:nvPr/>
        </p:nvCxnSpPr>
        <p:spPr>
          <a:xfrm>
            <a:off x="2289240" y="822240"/>
            <a:ext cx="600480" cy="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52" idx="1"/>
          </p:cNvCxnSpPr>
          <p:nvPr/>
        </p:nvCxnSpPr>
        <p:spPr>
          <a:xfrm flipH="1" rot="16200000">
            <a:off x="3819960" y="589320"/>
            <a:ext cx="357480" cy="1061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0" idx="2"/>
            <a:endCxn id="52" idx="2"/>
          </p:cNvCxnSpPr>
          <p:nvPr/>
        </p:nvCxnSpPr>
        <p:spPr>
          <a:xfrm flipH="1" rot="16200000">
            <a:off x="3171600" y="-518760"/>
            <a:ext cx="476640" cy="3396600"/>
          </a:xfrm>
          <a:prstGeom prst="bentConnector3">
            <a:avLst>
              <a:gd name="adj1" fmla="val 1486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4795920" y="252360"/>
            <a:ext cx="107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pring B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36360" y="324000"/>
            <a:ext cx="75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2522520"/>
            <a:ext cx="130032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2" idx="3"/>
            <a:endCxn id="58" idx="3"/>
          </p:cNvCxnSpPr>
          <p:nvPr/>
        </p:nvCxnSpPr>
        <p:spPr>
          <a:xfrm flipH="1">
            <a:off x="5656320" y="1298520"/>
            <a:ext cx="30600" cy="1343520"/>
          </a:xfrm>
          <a:prstGeom prst="bentConnector3">
            <a:avLst>
              <a:gd name="adj1" fmla="val -7642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1" idx="2"/>
            <a:endCxn id="58" idx="1"/>
          </p:cNvCxnSpPr>
          <p:nvPr/>
        </p:nvCxnSpPr>
        <p:spPr>
          <a:xfrm flipH="1" rot="16200000">
            <a:off x="3061800" y="1347120"/>
            <a:ext cx="1700640" cy="88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2629080" y="2427120"/>
            <a:ext cx="3179520" cy="417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1880" y="2092320"/>
            <a:ext cx="99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pring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1" idx="3"/>
            <a:endCxn id="52" idx="0"/>
          </p:cNvCxnSpPr>
          <p:nvPr/>
        </p:nvCxnSpPr>
        <p:spPr>
          <a:xfrm>
            <a:off x="4046400" y="822240"/>
            <a:ext cx="1061640" cy="357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24000" y="24210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5040" y="2317680"/>
            <a:ext cx="68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6370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3960" y="2533680"/>
            <a:ext cx="78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08-03-13T15:08:21Z</dcterms:modified>
  <cp:revision>49</cp:revision>
  <dc:subject/>
  <dc:title>Slide 1</dc:title>
</cp:coreProperties>
</file>